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DC5D-0736-4178-8F34-E9D84EF3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7FC-3C3A-4B3B-ADB2-D2506B3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CD90-BBEE-408B-ADB9-AB78004B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AE5-A445-4ED9-AED9-AF89B3A7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86C-1466-4048-8658-CCAAE03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9C0-AE79-4E7A-8344-E587405D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F65-5AEF-407D-B302-FC649B99B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724-83D1-4854-BCAB-9C75AB1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8CF-07E1-4FDD-BA66-F3E019B5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CEC-160A-4F47-94BB-838605E1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145-3673-4344-BA67-80C0BB93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96-3A2F-4AB3-9390-84B0F1B21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6462-4308-4183-B362-5056B029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000000"/>
                </a:solidFill>
                <a:latin typeface="Arial"/>
              </a:rPr>
              <a:t>David” 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avid’s Ice Cream will make you cool when you go to school!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92200"/>
            <a:ext cx="2138400" cy="3895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58000" y="762120"/>
            <a:ext cx="236052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